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4276C-7081-47D6-AC87-E5273D7B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BF65-2078-4EDC-AD94-350DAD83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E04C-BAA7-48BF-9EE3-CBB9101F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146E-BF9E-45EF-9A5A-EFC2DC89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CFA3-BADD-42E6-809D-5F6C91A4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BFD0-0F24-4C63-B907-3E33C06B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DA8A-4DCF-4E6D-A227-15F8D75D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93AC-36FB-42DC-89FF-81B4CA09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5031-B4DF-43C7-9BC2-D5B7B001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34F7-6E10-486B-B09C-B745E995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BCA2-0403-492A-877C-C52907E3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B341A-DC2C-4692-86A5-FCD83EB1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61E9-5207-42E5-8A7E-A92473B3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14D2-75B6-4634-91C8-4CF19306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05A0-80E7-4904-A3DC-CE67A521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2C14-D114-4508-9B46-5C2CA8A7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E270-BA36-446D-9F26-16B24939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C0AF-EE4A-400F-B4C4-618F134C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D480-A485-4696-97F6-9136ECC5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7E569-B213-4989-B972-C36EC667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BB28-CA19-4732-9876-30409DD1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0343-89EF-413F-AB93-16C4B249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52399-C3A3-44A7-9790-68C1C313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2F52-AD6C-4479-BDF6-B10DCDBA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52D6-16D4-417B-86DC-691323651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96B2-DF1A-4605-B01F-D770E76728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Dissection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219320" y="4495680"/>
            <a:ext cx="7619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have students do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ssections require: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1333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efully planned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maturity and resp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 techniq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ation of student belie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75248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llinois schools ar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equir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 include information on dissection alternatives in their course listings.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rman2789l"/>
          <p:cNvPicPr/>
          <p:nvPr/>
        </p:nvPicPr>
        <p:blipFill>
          <a:blip r:embed="rId1"/>
          <a:srcRect l="0" t="4800" r="5470" b="0"/>
          <a:stretch/>
        </p:blipFill>
        <p:spPr>
          <a:xfrm>
            <a:off x="5334120" y="2666880"/>
            <a:ext cx="3452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62120" y="630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base_media"/>
          <p:cNvPicPr/>
          <p:nvPr/>
        </p:nvPicPr>
        <p:blipFill>
          <a:blip r:embed="rId2"/>
          <a:stretch/>
        </p:blipFill>
        <p:spPr>
          <a:xfrm>
            <a:off x="5943600" y="1297080"/>
            <a:ext cx="2827440" cy="282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2057400" y="236844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lternatives to Dissec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3962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-dissected anim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sectible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shr0488l"/>
          <p:cNvPicPr/>
          <p:nvPr/>
        </p:nvPicPr>
        <p:blipFill>
          <a:blip r:embed="rId1"/>
          <a:srcRect l="10000" t="26667" r="20000" b="0"/>
          <a:stretch/>
        </p:blipFill>
        <p:spPr>
          <a:xfrm>
            <a:off x="4572000" y="2133720"/>
            <a:ext cx="41068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olest Dissection Model Ever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3" descr=""/>
          <p:cNvPicPr/>
          <p:nvPr/>
        </p:nvPicPr>
        <p:blipFill>
          <a:blip r:embed="rId1"/>
          <a:stretch/>
        </p:blipFill>
        <p:spPr>
          <a:xfrm>
            <a:off x="1994040" y="1981080"/>
            <a:ext cx="5155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8:26:49Z</dcterms:created>
  <dc:creator>Cynthia Moore</dc:creator>
  <dc:description/>
  <dc:language>en-US</dc:language>
  <cp:lastModifiedBy>Cynthia J. Moore</cp:lastModifiedBy>
  <dcterms:modified xsi:type="dcterms:W3CDTF">2011-05-18T17:16:36Z</dcterms:modified>
  <cp:revision>27</cp:revision>
  <dc:subject/>
  <dc:title>Animals in the Classroom</dc:title>
</cp:coreProperties>
</file>